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C27-D440-478A-A7C6-6A4F3BAD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1B0-52CF-405A-9C93-E8F91EE9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F9C-1689-406F-A44F-A52CE175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E26-868C-4CE0-AC2C-D89B4544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E39-C5BB-4EC8-BD93-1B344D0C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9D0-A438-4A6C-AA56-E763F23B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61B-A5A2-4AF7-BA16-D08A33DD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E88-EA60-4400-A555-6679E9EF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D7B-7D5E-41A4-98D6-4ED6510D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D50-FF50-4AFC-A3DD-808B7793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0DC-4CF5-4A8A-A068-7AE1F33B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2DA-2167-4E19-A3D3-24FFE78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4585-367B-42CF-9DFC-F6472CD4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ntasy Boo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uide to the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 Michael Muball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his is a intro to the book of fant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006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onsters and Gouls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t 1 Gobl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Goblins are the thieves of the fantasy world mainly they’ll do anything to save there life or get r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259000" cy="3448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ragons are the most dangerous monsters in the fantasy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40400" cy="384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llains of fant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’ve got you now!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 villain would say having the tr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illains,rivals,masterminds they are all the bad guy, the picture on the right is a character I’m thinking of ,sorcerer of the fl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llai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Villains like these guys, they look awsom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903320" cy="281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038480" y="1295280"/>
            <a:ext cx="4191120" cy="235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343400" y="3944880"/>
            <a:ext cx="4229280" cy="2633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ory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tory is every thing in fantasy ,come on what fantasy book has no story it could be as simple as catching a ghost or as complicated as getting a magic sword and defeating an evil sorcere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981080" cy="1522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50292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agic 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10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25Z</dcterms:modified>
  <cp:revision>10</cp:revision>
  <dc:subject/>
  <dc:title>Fantasy Books </dc:title>
</cp:coreProperties>
</file>